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applause.wav" ContentType="audio/x-wav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014-DEFF-4F0F-BC83-416540E8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EDB-4C3D-4ABA-AF0A-B6147A70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669AA-6DE3-441D-A5B4-B18D68CD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248E5-5804-4BE7-A0C1-3064D63B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C7ACC-DB18-42AA-9EAF-5F0B34C9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1FBBC-08CB-4EA1-8DD1-B77F55CB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05C78-FAD3-45A5-BD4A-99592B5C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C3975-4300-4C12-8506-278658F0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F09AF-A4F8-4601-8DBA-1869713A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F72B9-5364-414B-9CF9-775F349F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13BEE-B04D-48C5-9602-F27376E1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ABF0F-91BA-4813-A4AE-64877812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877-035B-4282-AC90-DC274492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079BE-3D6C-448B-B3A0-6C9C44DA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AA0AF-62F5-4E64-BC4D-0412A286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84BB5-0B54-4223-844A-962AE679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A2431-937F-4A06-AEDE-49D436E3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431CD-3A41-4D65-BCAD-758A799A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3356F-7047-4B19-98D3-6DC0F3F4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EC37C-E09C-4422-B85A-92F50E1A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55B91-7532-4176-B680-6F298C97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DA9A6-4E7A-48A2-BE90-9461A543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24C50-9332-4A98-AE15-66FDDC12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1FA-1D8C-4090-A2FC-33436923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CFB2F-F33A-482A-B276-9EBF7004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D6169-2DD4-4D82-AB22-FF4B3BBA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9695C-4399-4F2C-A638-8AB7B4AF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B46C4-C111-46F1-A865-856A180D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E0266-4786-4BAA-A750-0D52B772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B0678-31E7-405C-BFA2-C31431A2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C64C6-7F74-478E-9042-0FDD3FF7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9C52D-D9C8-4042-B15A-DCD9FEA8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86790-FEB9-4593-97C0-4C00827B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335DA-C85C-40E0-A61C-5CFE1F5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ECF7-FBE6-4F2C-88DB-74D180E3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AC528-E642-44A5-8AEC-EDD160EC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C8157-53BD-4A05-88DA-E1BFD823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5BC7D-AA84-4051-8815-7D39D743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8599F-D24F-473A-A85F-690362E6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EE1B5-5DCE-42F6-AA2E-75054441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FCE18-ED43-46A3-85EA-BED3CC2A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C8586-29AC-48E9-8B27-F483D095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C40DB-E4D9-4AF4-B772-EAFDB248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796FC-85DE-4DE4-B16F-0AF455EC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580B2-E6DF-4B8A-AE8F-867E8316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5CE1-932A-403A-918A-61800B0E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5779B-6B4E-4355-B1BD-338C769B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B450F-E5C6-4445-B464-B46CAA45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328D5-03B4-4199-8CF5-61024A17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34F21-8EDA-4244-AE3B-86AAC777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D6635-9231-48DD-B37D-7A364D2B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7BABA4-FB19-4C03-AA3D-B6FE0834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FECF9-5333-48D6-862F-2295B51B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AB123-616F-47BF-A61C-C48D1D5E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617E8-09AE-46C5-A4AB-E3A3A8E7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7BEF0-4437-4CF5-906E-1A2FDE7F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5DEB-30BD-4243-B3EF-9E6B5F3A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CF1CD-C48A-424B-A3B6-FCE7A5B9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A273D-F512-4E27-8107-3F53A051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74A29E-D5E7-4090-85F4-EAAF8B63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BFB44-5D63-4199-A844-F1DE6B63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D5C1B-8593-49B6-A15B-3680A39C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73DCC-EE36-455B-A5EA-AFD9C726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C33FE-3694-4DBE-A6AC-6B9B2FAA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9B1EE1-0329-4616-96A8-CBCF86C3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4A522-5933-497F-87C5-D9225CF3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CD9D2-04F4-428A-8676-20E43D11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866A-1529-43B4-8A9E-E19BBB51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609E56-561C-47B1-9337-23E48208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9A84A-79E4-4154-AC5C-8A60E5F1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72A29-AD0A-4F4C-8A55-DE2CB370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80AAC-224D-4CF8-9ED5-84846599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70BDD-D94F-4C02-9B88-FB3ED658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61416-C7D1-4CA0-B36E-F5542B5D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5D811-AF33-4E24-96D5-CFB45D64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A55279-9573-488C-944E-19908FA5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FE00A-1AC1-4DE9-9E85-D27C65A2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49BA-6190-46E8-A5D3-C79DBC8C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1DAD-B048-4AAC-AFA1-0B772A6E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F674-964C-47C9-A24E-EBBE1687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1D9-6360-48AD-A7DE-C0592720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493B-6085-41B8-B8C5-22074ABE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EEB5-59DB-4678-9301-70F831B3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4592-1B2E-4FAE-9DA2-4955A02A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751C-A184-4006-8145-ACCA587A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50A1-7985-4B54-B6FF-5BD31D93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E0943-D7C7-482D-8DB6-5B1590C0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D38F-FE98-4BF7-AF19-CC93BC6C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39A46-DA71-4ECE-BCB8-10DEB7EA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37A78-E479-40A9-A3AC-4C932AB4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7CFEC-BF05-496A-A594-AED4BCFA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DE7-84AE-4F36-BEA6-816C02DC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A1F53-3A1D-4622-991F-28ADF777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103AD-8B57-4C6D-8711-F3EB2424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68CF2-71D3-4C37-83FC-7D6E2AAA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B6FB-E989-4471-8488-18A192FF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C2CE2-4136-4A79-8DC6-4156A844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914B3-0265-4888-AF96-F0B45165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0CE3B-E3B9-420A-AEDD-A0ABF4E3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15EC6-6DF5-4154-AF04-3ADE7569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EA620-F34F-4074-8808-F09110A0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67A4E-3A18-458F-88A6-97D3DF62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FCA-DE4E-4DE2-B771-FEB18CE6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E055D-485F-4973-9C69-5E58894C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D4EF0-F1DA-4B3D-BE2F-13CF214B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A9596-74E4-401F-940A-5188822F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55C4B-2C84-4694-B67C-78BCE8A2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56054-602F-46BD-A3B5-571DC60B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DBA5-E91C-4CC3-9067-DAE12E2D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F07F9-3E47-41D7-860C-6A2F209B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3F27F-B56C-4E8B-A4EA-938B2090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D24F6-9111-4CCB-B58F-2BA37419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06027-E4E9-44BF-976A-B215A9C1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CFB-B9C8-4D88-810D-E65B79A2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CDAE9-1690-4C00-A4BA-842C196C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3EA9C-39C9-4F05-B624-7544DCBA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2B66F-9D3D-403E-98E2-14C2A0EE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975A7-E6E2-4475-8767-EA0BF6DF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71B9C-281F-4D43-9071-20C1374B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DCE7-1474-4B0F-A4F9-A81C2316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C4492-A13C-49B6-998A-3098A8ED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424D0-D4C9-41C5-97CB-A524AAE0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431D7-E3D6-452C-AC9E-86C035BA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69D54-7C34-4669-96F1-BD7395AD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E4D-4BF3-4BE9-AA74-E5AFBC33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6147C-4E81-435B-814B-2BC812B1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38084-98C9-41B8-93EE-CFB5629D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4393F-5C76-4C8A-A081-5AEB0B35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A741C-EFDF-469E-893A-620A41EB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F99F0-486C-4A97-B1B5-75B0EF09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732F4-2C3D-44BD-9330-B4DC811F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C0300-0B38-4E8C-BE04-43157DF4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60050-8D89-4C1E-8C0F-692046BD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34ABB-4E2D-4CDE-B860-B16F7FFF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365FF-FD7D-4CB4-9355-64264713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968-2406-4C8B-80B4-0F56E5EF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F28E8-236D-42C9-B649-C8560A9D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985A8-8C2C-4316-B70C-4432A850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DB0BF-0939-4725-9811-4C38326B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966E0-BF46-4558-B769-FE1675B8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D84CB-168F-4EF8-93F7-0E9BDBFD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59E84-4059-4F30-9AC3-8B6630A7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AA2FA-9FF1-469C-BDC1-8BA6712C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A5C5C-A5F0-4B10-A5A7-8C1F06C8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29B14-CA8E-4496-BDA9-BD36E94B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48E77-72F4-4731-BAD8-5083EDD0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E72-5914-41A9-ABEB-661BADC7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11517-EDE9-4F47-BCD2-9B6A49E9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00ADC-57C4-4C2F-94B6-40F39AEF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7BC52-39ED-4323-ABB5-28352FD9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F3469-AFE5-41FD-AC72-795F3E29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B3B8E-3C3C-4B04-B59D-635E94FA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51DC9-5341-488D-8E5B-7CFC8629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988CF-3DE8-4E4F-A0C6-423E5D20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ECCFC-E6B7-47CA-B248-5A24B660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E16D0-68C0-443D-A58F-599F5012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498CF-A152-4BBC-9F11-5DBE733F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A4C-1697-42ED-9E7E-464AA65C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C54C7-B122-4023-B822-2864EB17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A4ECE-438F-44C6-9371-5A87849B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3BFC6-B928-4B70-8E01-2161431A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5EDDC-BA73-495B-B9FE-5D743B9A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4C695-2174-465F-806A-7BDFDEDE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56F1D-DD6C-4D6A-B0A5-3DF550CB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1B708-6D0B-4725-946F-F4C8FB90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2AF1E-FB54-4B7E-8660-57FF29A6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EA9EF-F16C-4EE9-B781-09F6D60D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6D297-C2DE-4D6E-8FEF-AB9F21E2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1EC1-9E1B-4C94-8755-DAAD0F5FF2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0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dt" idx="2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ftr" idx="2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11BA-9609-4B3E-A782-C7B4671225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6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6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08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10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10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 type="dt" idx="3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 type="ftr" idx="3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A915-5F02-44C3-87A8-C1EE99D9B7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6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6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9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9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1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21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E3F3-5A98-4F4B-BC21-FCFA323B43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7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7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0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31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32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76A4-264B-429B-B1DC-F882A8AF27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37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38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40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42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42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3CDD-35C4-42F2-9766-21AEFA426D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E392-7846-41BB-B9E9-BEFC0ED0AF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1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1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4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5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6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34C6-9F43-4614-83AF-967AEE41A3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1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2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4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6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6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5B02-04B2-4933-9845-8F9A78A447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2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2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5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6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7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B2BE-2E13-4BB7-9312-1601738E54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3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3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5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7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7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6693-D151-404B-8B72-752BCE631C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3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3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6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8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8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3AC9-2D45-46DA-AEEA-BFD6FC74D6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4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4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7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8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9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554B-9C30-4333-86F6-C9096300C1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4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5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7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9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9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01D3-4584-424D-9FDA-7DC9ED5BFE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Picture 4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1800360" cy="171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5" name="Picture 5" descr=""/>
          <p:cNvPicPr/>
          <p:nvPr/>
        </p:nvPicPr>
        <p:blipFill>
          <a:blip r:embed="rId2"/>
          <a:stretch/>
        </p:blipFill>
        <p:spPr>
          <a:xfrm>
            <a:off x="3635280" y="2708280"/>
            <a:ext cx="1728720" cy="17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6" name="Picture 6" descr=""/>
          <p:cNvPicPr/>
          <p:nvPr/>
        </p:nvPicPr>
        <p:blipFill>
          <a:blip r:embed="rId3"/>
          <a:stretch/>
        </p:blipFill>
        <p:spPr>
          <a:xfrm>
            <a:off x="6659640" y="1628640"/>
            <a:ext cx="1800000" cy="1731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7" name="Picture 7" descr=""/>
          <p:cNvPicPr/>
          <p:nvPr/>
        </p:nvPicPr>
        <p:blipFill>
          <a:blip r:embed="rId4"/>
          <a:stretch/>
        </p:blipFill>
        <p:spPr>
          <a:xfrm>
            <a:off x="6659640" y="4724280"/>
            <a:ext cx="1800000" cy="1787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8" name="Picture 8" descr=""/>
          <p:cNvPicPr/>
          <p:nvPr/>
        </p:nvPicPr>
        <p:blipFill>
          <a:blip r:embed="rId5"/>
          <a:stretch/>
        </p:blipFill>
        <p:spPr>
          <a:xfrm>
            <a:off x="826920" y="4869000"/>
            <a:ext cx="1800360" cy="170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9" name="AutoShape 13"/>
          <p:cNvSpPr/>
          <p:nvPr/>
        </p:nvSpPr>
        <p:spPr>
          <a:xfrm>
            <a:off x="1692360" y="259560"/>
            <a:ext cx="6116400" cy="82188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  <a:effectLst>
            <a:outerShdw dist="89808" dir="16683909" blurRad="0" rotWithShape="0">
              <a:srgbClr val="8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ы́бери про́фили зву́ко̄в</a:t>
            </a:r>
            <a:r>
              <a:rPr b="0" lang="ru-RU" sz="2400" spc="-1" strike="noStrike">
                <a:solidFill>
                  <a:srgbClr val="f3f5b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, 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Rectangle 14"/>
          <p:cNvSpPr/>
          <p:nvPr/>
        </p:nvSpPr>
        <p:spPr>
          <a:xfrm>
            <a:off x="4859280" y="566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Text Box 18"/>
          <p:cNvSpPr/>
          <p:nvPr/>
        </p:nvSpPr>
        <p:spPr>
          <a:xfrm>
            <a:off x="1116000" y="3645000"/>
            <a:ext cx="93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1515"/>
                </a:solidFill>
                <a:latin typeface="Arial"/>
              </a:rPr>
              <a:t>Ш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Text Box 19"/>
          <p:cNvSpPr/>
          <p:nvPr/>
        </p:nvSpPr>
        <p:spPr>
          <a:xfrm>
            <a:off x="7093080" y="3213000"/>
            <a:ext cx="107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1515"/>
                </a:solidFill>
                <a:latin typeface="Arial"/>
              </a:rPr>
              <a:t>Щ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48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48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4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487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1487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14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485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485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486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1486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48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48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AutoShape 6"/>
          <p:cNvSpPr/>
          <p:nvPr/>
        </p:nvSpPr>
        <p:spPr>
          <a:xfrm>
            <a:off x="1198440" y="302400"/>
            <a:ext cx="7088400" cy="5637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  <a:effectLst>
            <a:outerShdw dist="140247" dir="16509269" blurRad="0" rotWithShape="0">
              <a:srgbClr val="8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Назо̄ви̍  карти̇нк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4" name="Рисунок 19" descr="http://www.wftest.ru/uploads/posts/2012-06/1340869178_4889e.jpg"/>
          <p:cNvPicPr/>
          <p:nvPr/>
        </p:nvPicPr>
        <p:blipFill>
          <a:blip r:embed="rId1"/>
          <a:stretch/>
        </p:blipFill>
        <p:spPr>
          <a:xfrm>
            <a:off x="395280" y="1125360"/>
            <a:ext cx="2089080" cy="176076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1495" name="Рисунок 3" descr="http://900igr.net/datas/chelovek/Professii-5.files/0015-015-Stroitel.jpg"/>
          <p:cNvPicPr/>
          <p:nvPr/>
        </p:nvPicPr>
        <p:blipFill>
          <a:blip r:embed="rId2"/>
          <a:stretch/>
        </p:blipFill>
        <p:spPr>
          <a:xfrm>
            <a:off x="3492360" y="1125360"/>
            <a:ext cx="2016360" cy="180036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1496" name="Рисунок 2" descr="http://cache.zr.ru/wpfiles/uploads/2010/11/201011191424_10.jpg"/>
          <p:cNvPicPr/>
          <p:nvPr/>
        </p:nvPicPr>
        <p:blipFill>
          <a:blip r:embed="rId3"/>
          <a:stretch/>
        </p:blipFill>
        <p:spPr>
          <a:xfrm>
            <a:off x="6588000" y="1125360"/>
            <a:ext cx="1943280" cy="180036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1497" name="Рисунок 1" descr="http://www.artonbox.ru/portfolio/hi/040.jpg"/>
          <p:cNvPicPr/>
          <p:nvPr/>
        </p:nvPicPr>
        <p:blipFill>
          <a:blip r:embed="rId4"/>
          <a:stretch/>
        </p:blipFill>
        <p:spPr>
          <a:xfrm>
            <a:off x="1763640" y="3716280"/>
            <a:ext cx="2016360" cy="163836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1498" name="Рисунок 20" descr="http://sovrab.ru/images/stories/vladimir/kranovshik.JPG"/>
          <p:cNvPicPr/>
          <p:nvPr/>
        </p:nvPicPr>
        <p:blipFill>
          <a:blip r:embed="rId5"/>
          <a:stretch/>
        </p:blipFill>
        <p:spPr>
          <a:xfrm>
            <a:off x="5292720" y="3716280"/>
            <a:ext cx="1943280" cy="158436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sp>
        <p:nvSpPr>
          <p:cNvPr id="1499" name="AutoShape 13"/>
          <p:cNvSpPr/>
          <p:nvPr/>
        </p:nvSpPr>
        <p:spPr>
          <a:xfrm>
            <a:off x="1055520" y="5919120"/>
            <a:ext cx="7286760" cy="5637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  <a:effectLst>
            <a:outerShdw dist="102298" dir="16624500" blurRad="0" rotWithShape="0">
              <a:srgbClr val="8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азо̄ви о̄дни́м сло́во̄м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Text Box 14"/>
          <p:cNvSpPr/>
          <p:nvPr/>
        </p:nvSpPr>
        <p:spPr>
          <a:xfrm>
            <a:off x="826200" y="299736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кату́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Text Box 16"/>
          <p:cNvSpPr/>
          <p:nvPr/>
        </p:nvSpPr>
        <p:spPr>
          <a:xfrm>
            <a:off x="3851280" y="299736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́мен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щ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Text Box 17"/>
          <p:cNvSpPr/>
          <p:nvPr/>
        </p:nvSpPr>
        <p:spPr>
          <a:xfrm>
            <a:off x="7792920" y="308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Text Box 18"/>
          <p:cNvSpPr/>
          <p:nvPr/>
        </p:nvSpPr>
        <p:spPr>
          <a:xfrm>
            <a:off x="7021080" y="3068640"/>
            <a:ext cx="10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̄фё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Text Box 19"/>
          <p:cNvSpPr/>
          <p:nvPr/>
        </p:nvSpPr>
        <p:spPr>
          <a:xfrm>
            <a:off x="2049840" y="5373720"/>
            <a:ext cx="14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со̄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щ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́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Text Box 20"/>
          <p:cNvSpPr/>
          <p:nvPr/>
        </p:nvSpPr>
        <p:spPr>
          <a:xfrm>
            <a:off x="5508720" y="5373720"/>
            <a:ext cx="156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но̄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щ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́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AutoShape 6"/>
          <p:cNvSpPr/>
          <p:nvPr/>
        </p:nvSpPr>
        <p:spPr>
          <a:xfrm>
            <a:off x="1116000" y="455040"/>
            <a:ext cx="7110360" cy="5637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  <a:effectLst>
            <a:outerShdw dist="140247" dir="16509269" blurRad="0" rotWithShape="0">
              <a:srgbClr val="8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В  мастерско̍й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AutoShape 13"/>
          <p:cNvSpPr/>
          <p:nvPr/>
        </p:nvSpPr>
        <p:spPr>
          <a:xfrm>
            <a:off x="900000" y="5876280"/>
            <a:ext cx="7286760" cy="5637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  <a:effectLst>
            <a:outerShdw dist="102298" dir="16624500" blurRad="0" rotWithShape="0">
              <a:srgbClr val="8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1611"/>
                </a:solidFill>
                <a:latin typeface="Arial"/>
              </a:rPr>
              <a:t>Назо̄ви 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Text Box 14"/>
          <p:cNvSpPr/>
          <p:nvPr/>
        </p:nvSpPr>
        <p:spPr>
          <a:xfrm>
            <a:off x="753480" y="2997360"/>
            <a:ext cx="3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Text Box 17"/>
          <p:cNvSpPr/>
          <p:nvPr/>
        </p:nvSpPr>
        <p:spPr>
          <a:xfrm>
            <a:off x="7792920" y="308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0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2590560" cy="3456000"/>
          </a:xfrm>
          <a:prstGeom prst="rect">
            <a:avLst/>
          </a:prstGeom>
          <a:ln w="0">
            <a:noFill/>
          </a:ln>
        </p:spPr>
      </p:pic>
      <p:pic>
        <p:nvPicPr>
          <p:cNvPr id="1511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8876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AutoShape 6"/>
          <p:cNvSpPr/>
          <p:nvPr/>
        </p:nvSpPr>
        <p:spPr>
          <a:xfrm>
            <a:off x="1187280" y="404280"/>
            <a:ext cx="6534360" cy="99468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  <a:effectLst>
            <a:outerShdw dist="140247" dir="16509269" blurRad="0" rotWithShape="0">
              <a:srgbClr val="8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В  мастерско̍й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AutoShape 13"/>
          <p:cNvSpPr/>
          <p:nvPr/>
        </p:nvSpPr>
        <p:spPr>
          <a:xfrm>
            <a:off x="1062000" y="5940000"/>
            <a:ext cx="7273800" cy="52020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  <a:effectLst>
            <a:outerShdw dist="102298" dir="16624500" blurRad="0" rotWithShape="0">
              <a:srgbClr val="8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1611"/>
                </a:solidFill>
                <a:latin typeface="Arial"/>
              </a:rPr>
              <a:t>Мо̄ло̄де̉ц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Text Box 14"/>
          <p:cNvSpPr/>
          <p:nvPr/>
        </p:nvSpPr>
        <p:spPr>
          <a:xfrm>
            <a:off x="753480" y="2997360"/>
            <a:ext cx="3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Text Box 17"/>
          <p:cNvSpPr/>
          <p:nvPr/>
        </p:nvSpPr>
        <p:spPr>
          <a:xfrm>
            <a:off x="7792920" y="308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6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2800080" cy="3733920"/>
          </a:xfrm>
          <a:prstGeom prst="rect">
            <a:avLst/>
          </a:prstGeom>
          <a:ln w="0">
            <a:noFill/>
          </a:ln>
        </p:spPr>
      </p:pic>
      <p:pic>
        <p:nvPicPr>
          <p:cNvPr id="1517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28573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9T13:25:04Z</dcterms:created>
  <dc:creator>Алла</dc:creator>
  <dc:description/>
  <dc:language>en-US</dc:language>
  <cp:lastModifiedBy>Надежда</cp:lastModifiedBy>
  <dcterms:modified xsi:type="dcterms:W3CDTF">2024-01-22T15:54:41Z</dcterms:modified>
  <cp:revision>76</cp:revision>
  <dc:subject/>
  <dc:title>Индивидуальноезанятие  по РСВ и ФП 5 класс II ви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